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A9E-8D8F-4C73-B9DA-604E3E51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F83-6F24-4DD7-8460-C0510262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FE5-5BE1-4A5E-B1E2-1346A06F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DDF-6DF0-4962-A0BA-48B69EB5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7BE-63CC-438F-8C1B-CC955785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0CA-7D32-4D47-83FE-075109F3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BB2-5C42-4F0E-AE52-119F952F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0EF-5B24-4830-BDF7-8B8483F1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8DA-9401-47D7-AB2B-DBF171C1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C27-98AE-42D0-9B7E-7F9E3202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EA0-D0B5-49DB-8821-BF31D595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678-6542-4DDC-95DD-B4049035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E559-6A3B-402C-958A-381DAFDE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7 Pán je môj Pastier nebesk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 môj Pastier nebesk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núdzu nepoz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on k vodám tichým vodí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 sviežim pastviná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dušu moju občerstv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erne ma vždy v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po ceste spravodliv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svojho mena česť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pôjdem smrti údolím, však nemusím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prút jeho vždy ma pote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ri mne bude stáť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neprajníkmi bohat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tôl mi prestier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a kalich vínom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 štedro nalieva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á jeho milsoť nesmier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lásky zname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||: v nej kotví viery ist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budem bývať s ním. :||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29:01Z</dcterms:modified>
  <cp:revision>21</cp:revision>
  <dc:subject/>
  <dc:title>Je veľký náš Pán, on slávy je Kráľ Nech do všetkých strán  spev vrúcnych znie chvál.</dc:title>
</cp:coreProperties>
</file>